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702-0719-48A9-A0C9-1486B904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B8B-C3B9-42B7-8896-F6C41FB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13F-646D-4AE7-8DA3-16EFAB4A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E89-F688-4D51-BCA2-8208CD1D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D72-CB8D-41EB-90B3-585D660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15D-3A30-471F-93DC-130E01F6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1333-0225-4F78-A5EF-6E7DBB94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F8D6-F1B2-43DA-9CAD-BE7A11F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56B-4A69-4832-B394-78D6F33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AD2B-D079-4FAC-B047-149A3C2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CE97-9707-4260-969D-28921B4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F07-658E-4E92-9001-BD5171A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DDD-32F0-426C-B9D3-E0762B1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1887-621D-4CFF-8074-104231D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8528-3F4C-4494-AE8C-7CAA45B9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184-610F-49B9-9BFB-2D189646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205-8FB0-4E78-923C-26614677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B02-6BA6-4062-9CBB-AA2DD292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923-932B-4D30-9097-1C8DB677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D81-2493-4B07-9911-4D58214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8A5-9D24-4B75-A02A-F95B918C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3D2-6315-4B02-BEDA-AD86337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E23-531D-4858-8F41-B1E1A7A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F5A-07D8-41AB-B79D-E4F6053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19C-4DFC-4430-A267-F6A4A0BCB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044-9A2A-4BEA-939C-8BB996B09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jec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two different size spheres in your hand and predict which is heav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igh each sphere and determine which is actually heavi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your prediction correct? If not, why do you think you got it wro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Lesson #48</a:t>
            </a:r>
            <a:br>
              <a:rPr sz="1800"/>
            </a:b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Topic:  Pressur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bjectives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fter this class I will be able to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Pres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-6858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the difference between force and press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304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17/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actice Pressure Proble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724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arm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press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s pressu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me thing as fo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me thing as ten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ount of force in a given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y brain feels every time I enter this classroo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ess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is defined as Force per Ar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ure has units of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 call this a Pascal (P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eel ball exerts more pressure than the tennis ball, even though the tennis ball is heav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a scale read more weight when you stand on one foot or tw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05320" y="1905120"/>
                <a:ext cx="1447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ull coffee mug has a mass of 0.6kg and an empty mug has a mass of 0.3k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ich mug, the full one or the empty one, applies a greater pressure on the 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If the full mug applies a pressure of 1200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hat is the area of the bottom of the mu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What is the radius of the coffee mu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women walk across an open grass field. Each woman has a mass of 60kg but Miss Culp is wearing spike heels that have an area of 0.4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le Miss Vance wears wide heels with an area of 6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Calculate how much pressure each woman will apply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What can Miss Culp do to help her sink less into the grou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ssure Pract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0.5kg spherical water balloon is sitting on the kitchen table. The bottom of the balloon flattens until the pressure on the bottom is reduced to 630 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What is the area of the flat spot on the bottom of the ballo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What is the radius of the flat spo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ewitt Pressure Vid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earth’s atmosphere thick or th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atmospheric pressure at sea lev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 can being sucked in or pushed 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n’t the plunger come off the chai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the 2 ways Hewitt blows up the ballo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physics behind drinking out of a stra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the jar stick to Hewitt’s hea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the cans go toge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es the ping pong ball stick to the stream of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answer to the question about the boat and the pi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7:39:45Z</dcterms:created>
  <dc:creator>End User</dc:creator>
  <dc:description/>
  <dc:language>en-US</dc:language>
  <cp:lastModifiedBy>End User</cp:lastModifiedBy>
  <dcterms:modified xsi:type="dcterms:W3CDTF">2007-07-17T14:44:30Z</dcterms:modified>
  <cp:revision>81</cp:revision>
  <dc:subject/>
  <dc:title>Lesson #1 8/29/06 </dc:title>
</cp:coreProperties>
</file>